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20B6-340B-41C9-B3C6-A28DC209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4B6D-C965-44DA-9BFF-6EC3F6CC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99F-DC5C-45A5-B5CE-F2A09A9D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64CE-E25E-49B7-9693-C8FBCFA46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6A29-3BF3-42BD-872D-DE10452FA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079F-DE83-423A-878D-B061FD27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70C8-FC2D-40BC-839E-9DABD34A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11C6-41FF-4BE1-9EF9-B46598C9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285E1-1F85-4D65-8B39-DA959382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2BD8-2A29-43D0-AE04-0D34D7E4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596A-C83A-4A0A-9373-D73D4695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B339-71C9-42C3-9511-2BA1F079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FE2F4-31D6-4435-9258-97926C1C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CB91-C3D4-4884-AB75-16543F12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BD765-61DA-4554-9EC4-D043D9A00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44BE-087D-4670-8C57-04D4AE700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ADDC-9176-472F-85D9-DBF88FF3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8237C-3AAD-4896-87E8-5BBF8C8F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7B17-21B0-4A70-9AEC-E32252CC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A4E7-792C-4AD4-96F7-814E04F5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D1B1D-F7E3-43A6-835F-8E227A7E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F443-E86F-476F-A18C-40C1332C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2151-2C85-4DCB-9875-9A0ECFF6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1314-A8BC-44E3-B556-7E221C3A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152D4-9DEE-4D9A-86A4-7D4C5A01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9B6DE-8E22-403A-8606-2BA84DE1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7A4A9-4B8A-46C2-A3D3-6542DE93A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7BFC1-3701-4BCD-8E0C-669D3D1F4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4DE53-913C-465D-850E-AC55DFBAD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C34B-94D3-4EA6-95AB-D8D9B62AD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486C-1C90-4379-BF01-5E4A93E8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1FAD-0CEE-40DC-B3FE-77DFACCA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FB2E-1D9B-428C-948A-C6F7B2B1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6643-617B-48B7-B786-44A8874B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35EC-A6BE-429F-8279-CF8801CB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941E-53FA-4DD9-B67A-9B511547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9389-ADBB-4789-AA0F-DBE72010E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3635280" y="0"/>
            <a:ext cx="1800360" cy="22255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E5AF-5E5A-4C02-A8F3-57A21AC62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Juliana\Desktop\логотип-01.png"/>
          <p:cNvPicPr/>
          <p:nvPr/>
        </p:nvPicPr>
        <p:blipFill>
          <a:blip r:embed="rId3"/>
          <a:stretch/>
        </p:blipFill>
        <p:spPr>
          <a:xfrm>
            <a:off x="-19080" y="152280"/>
            <a:ext cx="1079640" cy="2610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6456-B063-4FD5-A418-F15C2498A7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465280"/>
            <a:ext cx="7772400" cy="254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тестация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дагогических работников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3280" y="515736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Оптимизация правопримен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Порядка аттест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f7f7f"/>
                </a:solidFill>
                <a:latin typeface="Calibri"/>
              </a:rPr>
              <a:t>в субъектах Российской Федерац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22.12.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вовое регулирование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Трудовой кодекс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Федеральный закон от 29 декабря 2012 г. № 273-Ф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«Об образовании в Российской Федерации» (ст. 49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иказ Минобрнауки России от 7 апреля 2014 г. № 276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«Об утверждении Порядка проведения аттестаци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едагогических  работников организаций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яющих образовательную деятельность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отраслевые соглашения, коллективные догово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олномочия Минобрнауки Росс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гласно Закону «Об образовании в РФ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установление порядка проведен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ттестации педработников относится к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полномочиям Минобрнауки Росси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ок аттестации явля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домственным нормативным правовы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ом прямого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ъяснения Порядка аттестац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целях единообразия правоприменитель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актики были подготовлены и направлены 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бъекты РФ Разъяснения Департамен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осударственной политики в сфере общег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ования Минобрнауки России 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щероссийского Профсоюза образования п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менению Порядка аттестации от 3 декабря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014 г. № 08-1933/50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кты, принимаемые субъектами РФ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черпывающий перечень актов, принимаемых субъектами РФ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ля проведения аттестации педработников в целя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овления квалификационной категории, включает акт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формировании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составе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 регламенте работы аттестационных комисси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ловиях привлечения специалистов дл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существления всестороннего анализ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рофессиональной деятельности 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об установлении (или отказе в установлении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педработникам первой (высшей)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  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Calibri"/>
              </a:rPr>
              <a:t>категори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ттестация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ядком аттестации не предусмотрено какое-либо участие органов исполнительной власти субъектов РФ, осуществляющих государственное управление в сфере образования, в проведении аттестации педработников в целях подтверждения соответствия занимаемым должностя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формация, необходимая педработни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ри аттестации в целях установления квалификационной категории педработник должен зн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рядок проведения аттестации педагогическ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рганизаций, осуществляющ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бразовательную деятельность (приказ Минобрнаук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России от 7 апреля 2014 г. № 27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чтовый и электронный адреса аттестационно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омисс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ок и место проведения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порядительный акт об установлении (или отказ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ановлении) квалификационной категор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кументы, предъявляемые для аттестации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6840" y="1600200"/>
            <a:ext cx="454644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ттестация педработников в целях установления квалификационной категории проводится на основании их зая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заявлении о проведении аттестации педработники указывают квалификационные категории и должности, по которым они желают пройти аттестац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пункты 27 и 28 Порядка аттестаци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d0d0d"/>
                </a:solidFill>
                <a:latin typeface="Calibri"/>
              </a:rPr>
              <a:t>Работник вправе указать при подаче заявления ссылку на Интернет-ресурс, содержащий информацию о нём и результатах его работ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Рисунок 9" descr=""/>
          <p:cNvPicPr/>
          <p:nvPr/>
        </p:nvPicPr>
        <p:blipFill>
          <a:blip r:embed="rId1"/>
          <a:srcRect l="37500" t="24073" r="37085" b="12224"/>
          <a:stretch/>
        </p:blipFill>
        <p:spPr>
          <a:xfrm>
            <a:off x="5364000" y="1557360"/>
            <a:ext cx="3370320" cy="4751280"/>
          </a:xfrm>
          <a:prstGeom prst="rect">
            <a:avLst/>
          </a:prstGeom>
          <a:ln w="28440">
            <a:solidFill>
              <a:srgbClr val="e46c0a"/>
            </a:solidFill>
            <a:miter/>
          </a:ln>
        </p:spPr>
      </p:pic>
      <p:sp>
        <p:nvSpPr>
          <p:cNvPr id="160" name="Прямоугольник 4"/>
          <p:cNvSpPr/>
          <p:nvPr/>
        </p:nvSpPr>
        <p:spPr>
          <a:xfrm>
            <a:off x="5364000" y="515772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"/>
              </a:rPr>
              <a:t>Примерный образец заявления педработника о проведении аттестации в целях установления квалификационной катег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6"/>
          <p:cNvSpPr/>
          <p:nvPr/>
        </p:nvSpPr>
        <p:spPr>
          <a:xfrm>
            <a:off x="826920" y="5084640"/>
            <a:ext cx="410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бор информации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рассмотрении заяв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6840" y="1599840"/>
            <a:ext cx="843588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и рассмотрении заявлений о проведении аттестации в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целях установления квалификационной категор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ттестационная комиссия осуществляет самостоятельный сбор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еобходимой ей информации, например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анных, подтверждающих, что лицо, подавшее заявление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 проведении аттестации, является педработником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документ о месте работы и должности заявител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–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лицензия организации, в которой работает заявитель,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уществление образовательной деятельност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ведений об аттестации заявителя, если он проходил её ране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ритерии установления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валификационных категорий  </a:t>
            </a:r>
            <a:br>
              <a:rPr sz="4000"/>
            </a:br>
            <a:br>
              <a:rPr sz="7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счерпывающий перечень критериев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первой и высшей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квалификационных категорий содержится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в пунктах 36 и 37 (с учётом пункта 38)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Порядка аттестации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Субъекты РФ не вправе применять пр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аттестации иные (в т. ч. дополнительные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или детализирующие) критерии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установления квалификационных категорий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точники информации о педработни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Аттестационная комиссия осуществляет самостоятельны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сбор информации о результатах деятельности педработник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 том числе используя следующие источник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официальные сайты организаций, осуществляющих образовательную деятельность,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чные Интернет-ресурсы педработников в сети «Интерне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тоги мониторинга системы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информационные карты участников кон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езультаты всероссийской олимпиады школьн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жалобы педагогических работников и общественных организаций на нарушения Порядка аттестации в субъектах РФ, поступающие в Администрацию Президента РФ и Минобрнауки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нализ актов органов исполнительной власти субъектов РФ, осуществляющих государственное управление в сфере образования, подтвердивший обоснованность жалоб гражд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Анализ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Специалисты, привлекаемые для анализа профессиональной деятельности педработников, должны обосновать соответствие (несоответствие) педработника заявленной категории по результатам качественного, а не количественного анализа результатов его рабо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 анализе необходим дифференцированный подход в оценке результатов деятельности педработников с учётом специфики организаций, в которых они работают (например, «слабых» шко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ценка деятельности педработн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ценка профессиональной деятельности педработников в целях установления квалификационной категории осуществляется аттестационной комиссией на основе результатов их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езультаты аттестации в 2015 год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сшая квалификационная категория установлена 6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ая квалификационная категория установлена 9,5 % педработ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отношение в среднем по РФ – примерно 2 : 3 (разница в 1,5 раз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Ульяновской области количество педработников, которым был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становлена высшей категория, в 7,5 больше, чем количе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дработников, которым была установлена первая категори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Амурской области в 2,5 раза больше, в Ярославской области – в 2 раза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симальный разрыв в количественном соотношении педработников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торым были установлены высшая и первая категории (соответственн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 : 4) зафиксирован в Курской, Свердловской и Еврейской автономно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я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из примен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В 2014–15 гг. в Минобрнауки России поступи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36 обращений граждан из 16 субъектов РФ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18,8%) с жалобами на различные нарушения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орядка аттестаци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Проблема нарушения Порядка аттестации в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субъектах РФ была также обозначена в СМ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ядом общественных организац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(Гильдия словесников, Межрегиональный профсою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Calibri"/>
              </a:rPr>
              <a:t>работников образования «УЧИТЕЛЬ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нализ НПА субъектов Р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ноябре–декабре 2015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 Минобрнауки России поступили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распорядительные акты по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педработников из 85 субъектов Р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(100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* в рамках анализа лучших региональн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практик проведения аттест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тоги анализа региональных практик проведения аттес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кты в большинстве субъектов РФ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одержат критерии установления квалификацион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тегории, не предусмотренные Порядком аттестац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например, результаты тестирования, повышен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валификации, собеседования и т. д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станавливают перечни «отчётности» (в т. ч. документов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ыдаваемых педработникам за косвенную плату и (ил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и посредничестве третьих лиц, в том числе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ботодателе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"/>
              </a:rPr>
              <a:t>Тюменская обла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ведение специалистами департамента образования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юменской области (совместно с межрегиональ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ей Общероссийского Профсоюза образования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егулярных выездных встреч с молодыми педагогами (в т. ч. в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формате индивидуальных консультаций), в ходе которы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разъясняются аттестационные процедур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рганизация Советом молодых педагогов Тюменской обла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мониторинга аттестации молодых педагогов региона в рамках их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ддержки как наименее социально защищённой категори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едработников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Лучшие практ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Удмуртская Республ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	</a:t>
            </a:r>
            <a:r>
              <a:rPr b="0" lang="ru-RU" sz="3200" spc="-1" strike="noStrike">
                <a:solidFill>
                  <a:srgbClr val="0d0d0d"/>
                </a:solidFill>
                <a:latin typeface="Calibri"/>
                <a:ea typeface="Calibri"/>
              </a:rPr>
              <a:t>– </a:t>
            </a:r>
            <a:r>
              <a:rPr b="0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формирование при Министерстве      образования и науки Удмуртской Республики рабочей группы по совершенствованию системы аттестации педработников</a:t>
            </a:r>
            <a:r>
              <a:rPr b="0" i="1" lang="ru-RU" sz="2800" spc="-1" strike="noStrike">
                <a:solidFill>
                  <a:srgbClr val="0d0d0d"/>
                </a:solidFill>
                <a:latin typeface="Calibri"/>
                <a:ea typeface="Calibri"/>
              </a:rPr>
              <a:t> (ноябрь 2015 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d0d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учшие практики в сфере упрощения аттестационных процедур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ермский кра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–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звитие системы электронного документооборота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аттестации, что является особенно удобным дл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едработников, живущих за пределам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егиональной «столицы»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месте с тем в субъектах РФ имеются и случа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разумного перехода на электронный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окументооборот, когда заявления о проведении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аттестации не регистрируются без заполнения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лектронных анкет и прикрепления к ним файлов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не предусмотренных Порядком аттестаци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едение НПА субъектов РФ в соответствие с федеральным Порядком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беспечение независимости и объективности оцени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мена взимания прямой и косвенной платы при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прощение аттестационных процедур (в т. ч. отказ от «отчётности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еспечение соответствия между реальным уровнем квалификации педработника и результатами его аттест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0:34:49Z</dcterms:created>
  <dc:creator>Сергоманов Павел Аркадьевич</dc:creator>
  <dc:description/>
  <dc:language>en-US</dc:language>
  <cp:lastModifiedBy>Понкратова</cp:lastModifiedBy>
  <cp:lastPrinted>2015-12-22T07:41:24Z</cp:lastPrinted>
  <dcterms:modified xsi:type="dcterms:W3CDTF">2015-12-29T08:39:13Z</dcterms:modified>
  <cp:revision>52</cp:revision>
  <dc:subject/>
  <dc:title>Модель изменений нормативного правового регулирования стимулирования качества труда педагогов общего образования</dc:title>
</cp:coreProperties>
</file>